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C5F6-D182-44FF-9167-2785E53A9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EBE8-87F2-4F10-BB4D-10E084DAC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0CDE4F-3777-4E05-B6AD-E6EB3BA1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D1916-1476-4290-A517-1B9936F1D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0545C3-1C65-485A-8A96-636B1DDB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0BCD9D-4008-4C35-853E-959CE2CD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86046-D3DE-4B47-87BD-958A09A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E39F56-9B1F-4BA2-987D-069B914A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CFB36-10D7-4B1C-9FE8-A1CC63DF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E816DA-3BA4-4015-AB85-B6E0EF979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0A15D8-4537-4936-B9E8-E63D9211A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C388A-2E86-469D-82A1-22202DEB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5A6E-7988-4904-9F68-E578FB605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3F66B-5CC1-4B58-BA52-F5112EFDF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48646-90B9-41E0-B6EE-861324B78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A398A3-D8E5-4EA7-A9EB-775D5EADE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FDACF-5BD3-44E9-AA59-5D174BEE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761FA3-5806-4BCF-9E16-1463E21F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614E1-C73B-4759-891F-35838570F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FF09BA-DB3F-434B-8C6A-3D8035D0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EF69F6-A487-4B7B-B8F4-889A1222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94598-FA21-4409-B679-81027E3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EC5ADA-405D-479B-AED5-61C61DC3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4D7-096F-40B1-A77B-EA2B9DBC6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5E4DA-9E8A-4810-9A5D-3C12AED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8BD3-C783-4B8D-B2D0-42D47A85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6CB32-6DE4-47E1-BAC0-A3427AD3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2AE941-D385-4A57-909F-6A4B30F7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EBDEE2-4837-4904-8D71-0D0CBB20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1B9A98-A168-4F5E-A315-4237612CC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DAB78-9794-4317-9B05-9C391570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B5F85-11EE-40D4-A4FA-1CAADA23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85D87-C1FE-4180-99BD-D1A9CB503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54411D-0E74-42E0-94E3-AA35EDA3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0C1641-7FBB-4C8F-B11D-EB1F44B16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0CA277-8F6E-4AC2-B9C1-8179B401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29518-D458-49F9-9A6A-22FFF6E01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F9C6E3-E581-4282-8EAF-C40CE894F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E69AB5-19F9-4411-BD77-B31A3F8D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25F1FF-5B96-4AED-A5BB-BC739A48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33092-4A25-42F4-B49B-D71E66FA3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984D0-6B1C-4931-B4D0-4AEDC0A1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F01FF-E815-4170-85F9-FD6026BC9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BE8AD-BA06-4AFA-A021-1DE79B08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97386-C953-41A5-ADBA-EF12E7B3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217D65-33C0-498F-8DC7-51B5D7E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99733-0C8E-4E83-B564-9D48B629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2DBDB-98BB-4E3B-BC14-1C376993B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FA76C7-C5D1-4C96-9CBE-8E354B946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3B5510-F226-4F9F-8DE9-F40C7A7B0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B7F54B-F4B8-4738-97E9-58ACA95C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10C1-3C5F-4F27-9949-CF84E388D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478E2-4B76-4F73-91C3-53D5CBD8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5FCF-B8CD-4B68-9366-6150569B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47408-AAEE-4062-873D-E3EE7F4C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D64AA5-CFA5-4CC0-B86A-D8DE257D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EAF4FD-2FA1-4866-929B-4A78D90A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4F1EC1-D888-48C8-87A8-339A25FC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551D5B-8340-4B21-91E9-55851D01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76CFB-3F5C-4134-ADC5-B389A7DC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5D94AD-A015-4390-B215-307343CCE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E1A58A-97FA-4B75-AC5B-80F601678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CDD5B-AC68-4255-B7BE-AAB514A6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763A74-5BBA-4510-B98F-47CBB28A9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46D7D2-F7A9-4819-8663-F786BE98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2D6536-85A4-4C0E-99FE-9D1D0AF72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8867F4-6F98-4590-862B-449B06700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0B3A2-FFCF-411E-A1ED-E2F9009C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9FBC87-1CDF-4D85-B4A1-2394301D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B2D727-61AB-4545-98E8-3E991F547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57CFC5-4CE1-4206-BEF6-09BC2EB9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A710A-9581-4FC3-81B4-3C7CA0EFE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91FD-859C-4F4B-B53B-60AB4D9A0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380-C81E-4504-A5DB-3313CC17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AFF7C-0A30-49B7-8A30-6103F7A0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53D1-3859-4500-8B73-7E8B49B2D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A486-7D07-49DC-A9D2-0ABF1BDBC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A720-6AC8-4288-A21B-AAD8D9F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83D2-C13A-4FF9-80BC-124B6DF3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5273-1631-41F1-A92E-8A0D5A7F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D838-6F9A-4E9A-AACD-9338E7613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3419-E69E-4591-B70F-B8E78A22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4A89D-9C9A-4B48-9147-441A4F8F6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41E89-BFF1-4365-A799-CF646D28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4333E-CD97-4EF3-A8E3-841504C6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4A10-C71F-4282-9C95-68D1F7E99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2074-0EEB-45CE-B2C0-CFFF1B54C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8D0E-6E68-4161-8469-B96561AA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6E47-E7DD-4C2B-B0D9-5E2B6C31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7B60-DA3A-424C-93A8-2946CF3C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E25B5-BC72-42C5-9F51-FD14D6456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3D7E8-4549-4B1E-A177-181812780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CFA7E-B537-4DF1-9EA5-40DC72F8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F4D0D-8D58-4947-926C-64E99383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3A637-B7C1-4F3E-8E22-8E18B5A4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D5BBF-6FC0-4A44-9F47-AD1A71423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F041-73D6-4CF1-B8AF-33066E41C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1EB38-84ED-4FB3-9F6D-C682429E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1E5F2-5AF8-4362-ABCB-4BC0F91D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771F-C975-4658-AC69-B357077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349C2-A129-416C-AFC1-509A6A44E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FCC71-E364-4BCF-9A05-BEB5B523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EB25-B94C-495F-AE31-54271EDA2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7FA25-98CE-4A98-A8D7-972637E5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1B112-A59A-48F8-ACA5-4E8DB15C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0B29D-4917-4B2A-AC21-357C97E78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80C68-0197-4400-A51E-35008BE2F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AE1D2-405D-440C-82B2-152EC786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26410-CAD2-4244-BB16-AFC9E7E5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54A7BD-949C-467C-8A8E-1CBAF394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2598-BAE2-42CC-804B-77423EF6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4106E-D320-435F-88C5-B10E688E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037BB-84B4-4C0B-A564-DB58851F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9B35E-A820-4F7A-93B2-84B9E284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83895-1FF7-40AB-96B7-343D366DE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BC4E9-AAEF-4701-8B36-2965C3180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A0D11-37D0-401A-9A1F-A5B1C7DC0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69067-0FAF-421A-A55F-B4EBECF6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BE3B0-20F9-4783-9C45-DC45BAFB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E06B6-88EC-40B1-BDC5-DF1D5250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343540-471B-4224-BD35-5DDCEC74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9456-BE5B-4B5E-BAB1-1BC18713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4C395-69A6-4813-88AD-1058488C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0CE80-3B53-4D26-BB2D-0C07D361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EB329-A7DB-428F-ADE0-DA8E32F7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5D921-FDE2-44A0-9A04-072ABF8C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50FD1-1803-4DE1-96C9-385418DAE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51F4C5-EA96-4537-B0D1-6D34DF7F5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FECB4-63DC-4EBE-8BCE-2895607DF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ABD2F-C2EB-4AA8-ADDB-D65AFAAE0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02EA61-72FF-401A-A67F-097D584BE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AC55E-7128-4F65-A5D5-79E111F6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2304B-F922-4D7F-B7C2-761CDB2357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DD7C0-BED3-4551-85E5-FF36A1400A2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1E0B9-273D-466F-A4D3-4F1833339C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F2A6-E771-4287-A232-FDD31AE17F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DE2A3-A98C-40E0-906A-B7FC786DA17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425" h="6400800">
                <a:moveTo>
                  <a:pt x="767713" y="0"/>
                </a:moveTo>
                <a:lnTo>
                  <a:pt x="767713" y="0"/>
                </a:lnTo>
                <a:cubicBezTo>
                  <a:pt x="1191709" y="0"/>
                  <a:pt x="1535426" y="343717"/>
                  <a:pt x="1535426" y="767713"/>
                </a:cubicBezTo>
                <a:cubicBezTo>
                  <a:pt x="1535426" y="2645409"/>
                  <a:pt x="1535425" y="4523104"/>
                  <a:pt x="1535425" y="6400800"/>
                </a:cubicBezTo>
                <a:lnTo>
                  <a:pt x="1535425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713"/>
                </a:lnTo>
                <a:cubicBezTo>
                  <a:pt x="0" y="343717"/>
                  <a:pt x="343717" y="0"/>
                  <a:pt x="767713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E377-F4DB-40BD-9DB8-F57771BFD9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720" y="1577520"/>
            <a:ext cx="9472320" cy="4641480"/>
            <a:chOff x="-720" y="1577520"/>
            <a:chExt cx="9472320" cy="464148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3120"/>
              <a:ext cx="206532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960"/>
              <a:ext cx="1041120" cy="713520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2760" cy="529704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000" cy="632052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5040" y="-279360"/>
              <a:ext cx="552240" cy="510516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920" y="1177920"/>
              <a:ext cx="536400" cy="293616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600" y="-764640"/>
              <a:ext cx="3505680" cy="1521000"/>
            </a:xfrm>
            <a:custGeom>
              <a:avLst/>
              <a:gdLst/>
              <a:ahLst/>
              <a:rect l="l" t="t" r="r" b="b"/>
              <a:pathLst>
                <a:path w="3505316" h="1521076">
                  <a:moveTo>
                    <a:pt x="3505110" y="772199"/>
                  </a:moveTo>
                  <a:cubicBezTo>
                    <a:pt x="3490413" y="1188100"/>
                    <a:pt x="2708473" y="1521725"/>
                    <a:pt x="1749920" y="1521075"/>
                  </a:cubicBezTo>
                  <a:cubicBezTo>
                    <a:pt x="782161" y="1520419"/>
                    <a:pt x="-1219" y="1179523"/>
                    <a:pt x="2" y="759579"/>
                  </a:cubicBezTo>
                  <a:lnTo>
                    <a:pt x="1752658" y="760538"/>
                  </a:lnTo>
                  <a:lnTo>
                    <a:pt x="3505110" y="77219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8280" y="-17784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  <a:lnTo>
                    <a:pt x="566676" y="415823"/>
                  </a:lnTo>
                  <a:lnTo>
                    <a:pt x="4017" y="366396"/>
                  </a:lnTo>
                  <a:close/>
                </a:path>
                <a:path fill="none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1000" h="381000">
                  <a:moveTo>
                    <a:pt x="381000" y="190415"/>
                  </a:moveTo>
                  <a:cubicBezTo>
                    <a:pt x="381046" y="293853"/>
                    <a:pt x="298541" y="378427"/>
                    <a:pt x="195133" y="380943"/>
                  </a:cubicBezTo>
                  <a:cubicBezTo>
                    <a:pt x="91726" y="383459"/>
                    <a:pt x="5205" y="302997"/>
                    <a:pt x="221" y="199679"/>
                  </a:cubicBezTo>
                  <a:lnTo>
                    <a:pt x="190500" y="190500"/>
                  </a:lnTo>
                  <a:lnTo>
                    <a:pt x="381000" y="190415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960" cy="1671480"/>
            </a:xfrm>
            <a:custGeom>
              <a:avLst/>
              <a:gdLst/>
              <a:ahLst/>
              <a:rect l="l" t="t" r="r" b="b"/>
              <a:pathLst>
                <a:path stroke="0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  <a:lnTo>
                    <a:pt x="726532" y="835684"/>
                  </a:lnTo>
                  <a:lnTo>
                    <a:pt x="493143" y="44292"/>
                  </a:lnTo>
                  <a:close/>
                </a:path>
                <a:path fill="none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880" y="-1040400"/>
              <a:ext cx="1905840" cy="2047680"/>
            </a:xfrm>
            <a:custGeom>
              <a:avLst/>
              <a:gdLst/>
              <a:ahLst/>
              <a:rect l="l" t="t" r="r" b="b"/>
              <a:pathLst>
                <a:path stroke="0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  <a:lnTo>
                    <a:pt x="952934" y="1023670"/>
                  </a:lnTo>
                  <a:lnTo>
                    <a:pt x="673294" y="45068"/>
                  </a:lnTo>
                  <a:close/>
                </a:path>
                <a:path fill="none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0C36-34EA-4DBF-90A7-3FCBA47DEA9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48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660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440"/>
              <a:ext cx="1023840" cy="867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600" y="-764640"/>
              <a:ext cx="3505680" cy="1521000"/>
            </a:xfrm>
            <a:custGeom>
              <a:avLst/>
              <a:gdLst/>
              <a:ahLst/>
              <a:rect l="l" t="t" r="r" b="b"/>
              <a:pathLst>
                <a:path w="3505316" h="1521076">
                  <a:moveTo>
                    <a:pt x="3505110" y="772199"/>
                  </a:moveTo>
                  <a:cubicBezTo>
                    <a:pt x="3490413" y="1188100"/>
                    <a:pt x="2708473" y="1521725"/>
                    <a:pt x="1749920" y="1521075"/>
                  </a:cubicBezTo>
                  <a:cubicBezTo>
                    <a:pt x="782161" y="1520419"/>
                    <a:pt x="-1219" y="1179523"/>
                    <a:pt x="2" y="759579"/>
                  </a:cubicBezTo>
                  <a:lnTo>
                    <a:pt x="1752658" y="760538"/>
                  </a:lnTo>
                  <a:lnTo>
                    <a:pt x="3505110" y="77219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9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8280" y="-17784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  <a:lnTo>
                    <a:pt x="566676" y="415823"/>
                  </a:lnTo>
                  <a:lnTo>
                    <a:pt x="4017" y="366396"/>
                  </a:lnTo>
                  <a:close/>
                </a:path>
                <a:path fill="none" w="1133352" h="831645">
                  <a:moveTo>
                    <a:pt x="4017" y="366396"/>
                  </a:moveTo>
                  <a:cubicBezTo>
                    <a:pt x="37933" y="158506"/>
                    <a:pt x="277203" y="1543"/>
                    <a:pt x="562527" y="11"/>
                  </a:cubicBezTo>
                  <a:cubicBezTo>
                    <a:pt x="845193" y="-1508"/>
                    <a:pt x="1086156" y="150066"/>
                    <a:pt x="1127313" y="355280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1000" h="381000">
                  <a:moveTo>
                    <a:pt x="381000" y="190415"/>
                  </a:moveTo>
                  <a:cubicBezTo>
                    <a:pt x="381046" y="293853"/>
                    <a:pt x="298541" y="378427"/>
                    <a:pt x="195133" y="380943"/>
                  </a:cubicBezTo>
                  <a:cubicBezTo>
                    <a:pt x="91726" y="383459"/>
                    <a:pt x="5205" y="302997"/>
                    <a:pt x="221" y="199679"/>
                  </a:cubicBezTo>
                  <a:lnTo>
                    <a:pt x="190500" y="190500"/>
                  </a:lnTo>
                  <a:lnTo>
                    <a:pt x="381000" y="190415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960" cy="1671480"/>
            </a:xfrm>
            <a:custGeom>
              <a:avLst/>
              <a:gdLst/>
              <a:ahLst/>
              <a:rect l="l" t="t" r="r" b="b"/>
              <a:pathLst>
                <a:path stroke="0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  <a:lnTo>
                    <a:pt x="726532" y="835684"/>
                  </a:lnTo>
                  <a:lnTo>
                    <a:pt x="493143" y="44292"/>
                  </a:lnTo>
                  <a:close/>
                </a:path>
                <a:path fill="none" w="1453063" h="1671367">
                  <a:moveTo>
                    <a:pt x="493143" y="44292"/>
                  </a:moveTo>
                  <a:cubicBezTo>
                    <a:pt x="766258" y="-62271"/>
                    <a:pt x="1068314" y="27068"/>
                    <a:pt x="1262862" y="271953"/>
                  </a:cubicBezTo>
                  <a:cubicBezTo>
                    <a:pt x="1420587" y="470488"/>
                    <a:pt x="1485605" y="744203"/>
                    <a:pt x="1437559" y="1007405"/>
                  </a:cubicBezTo>
                  <a:cubicBezTo>
                    <a:pt x="1384763" y="1296635"/>
                    <a:pt x="1203081" y="1532281"/>
                    <a:pt x="959742" y="1627145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52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640"/>
              <a:ext cx="756360" cy="64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880" y="-1040400"/>
              <a:ext cx="1905840" cy="2047680"/>
            </a:xfrm>
            <a:custGeom>
              <a:avLst/>
              <a:gdLst/>
              <a:ahLst/>
              <a:rect l="l" t="t" r="r" b="b"/>
              <a:pathLst>
                <a:path stroke="0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  <a:lnTo>
                    <a:pt x="952934" y="1023670"/>
                  </a:lnTo>
                  <a:lnTo>
                    <a:pt x="673294" y="45068"/>
                  </a:lnTo>
                  <a:close/>
                </a:path>
                <a:path fill="none" w="1905868" h="2047339">
                  <a:moveTo>
                    <a:pt x="673294" y="45068"/>
                  </a:moveTo>
                  <a:cubicBezTo>
                    <a:pt x="1186299" y="-124097"/>
                    <a:pt x="1728108" y="194936"/>
                    <a:pt x="1871312" y="750496"/>
                  </a:cubicBezTo>
                  <a:cubicBezTo>
                    <a:pt x="2006759" y="1275965"/>
                    <a:pt x="1735024" y="1823262"/>
                    <a:pt x="1253339" y="199514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64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84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400"/>
              <a:ext cx="2014920" cy="1892520"/>
              <a:chOff x="2741400" y="-932400"/>
              <a:chExt cx="2014920" cy="189252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1840" y="-834840"/>
                <a:ext cx="1452960" cy="1671840"/>
              </a:xfrm>
              <a:custGeom>
                <a:avLst/>
                <a:gdLst/>
                <a:ahLst/>
                <a:rect l="l" t="t" r="r" b="b"/>
                <a:pathLst>
                  <a:path stroke="0" w="1453063" h="1671367">
                    <a:moveTo>
                      <a:pt x="485448" y="47350"/>
                    </a:moveTo>
                    <a:cubicBezTo>
                      <a:pt x="759438" y="-63508"/>
                      <a:pt x="1064502" y="23984"/>
                      <a:pt x="1261168" y="269827"/>
                    </a:cubicBezTo>
                    <a:cubicBezTo>
                      <a:pt x="1420559" y="469074"/>
                      <a:pt x="1486148" y="744797"/>
                      <a:pt x="1437151" y="1009629"/>
                    </a:cubicBezTo>
                    <a:cubicBezTo>
                      <a:pt x="1383234" y="1301053"/>
                      <a:pt x="1198502" y="1537414"/>
                      <a:pt x="952292" y="1629998"/>
                    </a:cubicBezTo>
                    <a:lnTo>
                      <a:pt x="726532" y="835684"/>
                    </a:lnTo>
                    <a:lnTo>
                      <a:pt x="485448" y="47350"/>
                    </a:lnTo>
                    <a:close/>
                  </a:path>
                  <a:path fill="none" w="1453063" h="1671367">
                    <a:moveTo>
                      <a:pt x="485448" y="47350"/>
                    </a:moveTo>
                    <a:cubicBezTo>
                      <a:pt x="759438" y="-63508"/>
                      <a:pt x="1064502" y="23984"/>
                      <a:pt x="1261168" y="269827"/>
                    </a:cubicBezTo>
                    <a:cubicBezTo>
                      <a:pt x="1420559" y="469074"/>
                      <a:pt x="1486148" y="744797"/>
                      <a:pt x="1437151" y="1009629"/>
                    </a:cubicBezTo>
                    <a:cubicBezTo>
                      <a:pt x="1383234" y="1301053"/>
                      <a:pt x="1198502" y="1537414"/>
                      <a:pt x="952292" y="162999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8400" y="31680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0360" y="157320"/>
                <a:ext cx="756720" cy="643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7680" y="-1206000"/>
              <a:ext cx="4192560" cy="2356560"/>
              <a:chOff x="3217680" y="-1206000"/>
              <a:chExt cx="4192560" cy="235656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680" y="-775800"/>
                <a:ext cx="3198600" cy="1521000"/>
              </a:xfrm>
              <a:custGeom>
                <a:avLst/>
                <a:gdLst/>
                <a:ahLst/>
                <a:rect l="l" t="t" r="r" b="b"/>
                <a:pathLst>
                  <a:path w="3505316" h="1521076">
                    <a:moveTo>
                      <a:pt x="3505110" y="772199"/>
                    </a:moveTo>
                    <a:cubicBezTo>
                      <a:pt x="3490424" y="1187808"/>
                      <a:pt x="2709529" y="1521316"/>
                      <a:pt x="1751648" y="1521076"/>
                    </a:cubicBezTo>
                    <a:cubicBezTo>
                      <a:pt x="790375" y="1520836"/>
                      <a:pt x="8929" y="1184656"/>
                      <a:pt x="75" y="767544"/>
                    </a:cubicBezTo>
                    <a:lnTo>
                      <a:pt x="1752658" y="760538"/>
                    </a:lnTo>
                    <a:lnTo>
                      <a:pt x="3505110" y="77219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6120" y="129960"/>
                <a:ext cx="933840" cy="952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960" y="-188640"/>
                <a:ext cx="1033920" cy="831600"/>
              </a:xfrm>
              <a:custGeom>
                <a:avLst/>
                <a:gdLst/>
                <a:ahLst/>
                <a:rect l="l" t="t" r="r" b="b"/>
                <a:pathLst>
                  <a:path stroke="0" w="1133352" h="831645">
                    <a:moveTo>
                      <a:pt x="4017" y="366396"/>
                    </a:moveTo>
                    <a:cubicBezTo>
                      <a:pt x="37933" y="158506"/>
                      <a:pt x="277203" y="1543"/>
                      <a:pt x="562527" y="11"/>
                    </a:cubicBezTo>
                    <a:cubicBezTo>
                      <a:pt x="845193" y="-1508"/>
                      <a:pt x="1086156" y="150066"/>
                      <a:pt x="1127313" y="355280"/>
                    </a:cubicBezTo>
                    <a:lnTo>
                      <a:pt x="566676" y="415823"/>
                    </a:lnTo>
                    <a:lnTo>
                      <a:pt x="4017" y="366396"/>
                    </a:lnTo>
                    <a:close/>
                  </a:path>
                  <a:path fill="none" w="1133352" h="831645">
                    <a:moveTo>
                      <a:pt x="4017" y="366396"/>
                    </a:moveTo>
                    <a:cubicBezTo>
                      <a:pt x="37933" y="158506"/>
                      <a:pt x="277203" y="1543"/>
                      <a:pt x="562527" y="11"/>
                    </a:cubicBezTo>
                    <a:cubicBezTo>
                      <a:pt x="845193" y="-1508"/>
                      <a:pt x="1086156" y="150066"/>
                      <a:pt x="1127313" y="355280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1640" y="-961560"/>
                <a:ext cx="1905840" cy="1868040"/>
              </a:xfrm>
              <a:custGeom>
                <a:avLst/>
                <a:gdLst/>
                <a:ahLst/>
                <a:rect l="l" t="t" r="r" b="b"/>
                <a:pathLst>
                  <a:path stroke="0" w="1905868" h="2047339">
                    <a:moveTo>
                      <a:pt x="673294" y="45068"/>
                    </a:moveTo>
                    <a:cubicBezTo>
                      <a:pt x="1186299" y="-124097"/>
                      <a:pt x="1728108" y="194936"/>
                      <a:pt x="1871312" y="750496"/>
                    </a:cubicBezTo>
                    <a:cubicBezTo>
                      <a:pt x="2006759" y="1275965"/>
                      <a:pt x="1735024" y="1823262"/>
                      <a:pt x="1253339" y="1995144"/>
                    </a:cubicBezTo>
                    <a:lnTo>
                      <a:pt x="952934" y="1023670"/>
                    </a:lnTo>
                    <a:lnTo>
                      <a:pt x="673294" y="45068"/>
                    </a:lnTo>
                    <a:close/>
                  </a:path>
                  <a:path fill="none" w="1905868" h="2047339">
                    <a:moveTo>
                      <a:pt x="673294" y="45068"/>
                    </a:moveTo>
                    <a:cubicBezTo>
                      <a:pt x="1186299" y="-124097"/>
                      <a:pt x="1728108" y="194936"/>
                      <a:pt x="1871312" y="750496"/>
                    </a:cubicBezTo>
                    <a:cubicBezTo>
                      <a:pt x="2006759" y="1275965"/>
                      <a:pt x="1735024" y="1823262"/>
                      <a:pt x="1253339" y="1995144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000"/>
              <a:ext cx="267120" cy="26712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5320"/>
              <a:ext cx="182520" cy="228600"/>
            </a:xfrm>
            <a:custGeom>
              <a:avLst/>
              <a:gdLst/>
              <a:ahLst/>
              <a:rect l="l" t="t" r="r" b="b"/>
              <a:pathLst>
                <a:path w="182880" h="228600">
                  <a:moveTo>
                    <a:pt x="162843" y="185703"/>
                  </a:moveTo>
                  <a:cubicBezTo>
                    <a:pt x="132396" y="233276"/>
                    <a:pt x="77450" y="242637"/>
                    <a:pt x="37929" y="206984"/>
                  </a:cubicBezTo>
                  <a:cubicBezTo>
                    <a:pt x="8512" y="180447"/>
                    <a:pt x="-5572" y="134682"/>
                    <a:pt x="2031" y="90343"/>
                  </a:cubicBezTo>
                  <a:cubicBezTo>
                    <a:pt x="11068" y="37646"/>
                    <a:pt x="48325" y="0"/>
                    <a:pt x="91440" y="0"/>
                  </a:cubicBezTo>
                  <a:lnTo>
                    <a:pt x="162843" y="1857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714" h="2607556">
                <a:moveTo>
                  <a:pt x="404857" y="0"/>
                </a:moveTo>
                <a:lnTo>
                  <a:pt x="404857" y="0"/>
                </a:lnTo>
                <a:cubicBezTo>
                  <a:pt x="628453" y="0"/>
                  <a:pt x="809714" y="181261"/>
                  <a:pt x="809714" y="404857"/>
                </a:cubicBezTo>
                <a:lnTo>
                  <a:pt x="809714" y="2607556"/>
                </a:lnTo>
                <a:lnTo>
                  <a:pt x="809714" y="2607556"/>
                </a:lnTo>
                <a:lnTo>
                  <a:pt x="0" y="2607556"/>
                </a:lnTo>
                <a:lnTo>
                  <a:pt x="0" y="2607556"/>
                </a:lnTo>
                <a:lnTo>
                  <a:pt x="0" y="404857"/>
                </a:lnTo>
                <a:cubicBezTo>
                  <a:pt x="0" y="181261"/>
                  <a:pt x="181261" y="0"/>
                  <a:pt x="404857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914F2-C89B-4C3E-B203-F55D116999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97B5-8F67-4C6A-9154-D00B1082AF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260" h="8888412">
                <a:moveTo>
                  <a:pt x="725130" y="0"/>
                </a:moveTo>
                <a:lnTo>
                  <a:pt x="725130" y="0"/>
                </a:lnTo>
                <a:cubicBezTo>
                  <a:pt x="1125608" y="0"/>
                  <a:pt x="1450260" y="324652"/>
                  <a:pt x="1450260" y="725130"/>
                </a:cubicBezTo>
                <a:lnTo>
                  <a:pt x="1450260" y="8888412"/>
                </a:lnTo>
                <a:lnTo>
                  <a:pt x="1450260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130"/>
                </a:lnTo>
                <a:cubicBezTo>
                  <a:pt x="0" y="324652"/>
                  <a:pt x="324652" y="0"/>
                  <a:pt x="725130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33D0-1893-4C57-8A7D-892B8E2BB3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440"/>
            <a:ext cx="7695000" cy="2025360"/>
            <a:chOff x="-573120" y="-649440"/>
            <a:chExt cx="7695000" cy="202536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440"/>
              <a:ext cx="7385040" cy="2025360"/>
              <a:chOff x="-263160" y="-649440"/>
              <a:chExt cx="7385040" cy="202536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38960" y="-40680"/>
                <a:ext cx="581760" cy="78984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4440" y="12960"/>
                <a:ext cx="1189080" cy="1011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6840"/>
                <a:ext cx="1106280" cy="1194840"/>
              </a:xfrm>
              <a:custGeom>
                <a:avLst/>
                <a:gdLst/>
                <a:ahLst/>
                <a:rect l="l" t="t" r="r" b="b"/>
                <a:pathLst>
                  <a:path stroke="0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  <a:lnTo>
                      <a:pt x="553177" y="597494"/>
                    </a:lnTo>
                    <a:lnTo>
                      <a:pt x="379675" y="30150"/>
                    </a:lnTo>
                    <a:close/>
                  </a:path>
                  <a:path fill="none" w="1106354" h="1194988">
                    <a:moveTo>
                      <a:pt x="379675" y="30150"/>
                    </a:moveTo>
                    <a:cubicBezTo>
                      <a:pt x="580038" y="-41335"/>
                      <a:pt x="800600" y="16526"/>
                      <a:pt x="948284" y="179315"/>
                    </a:cubicBezTo>
                    <a:cubicBezTo>
                      <a:pt x="1079835" y="324321"/>
                      <a:pt x="1134216" y="531555"/>
                      <a:pt x="1092673" y="729552"/>
                    </a:cubicBezTo>
                    <a:cubicBezTo>
                      <a:pt x="1048867" y="938337"/>
                      <a:pt x="904992" y="1105853"/>
                      <a:pt x="715519" y="1168679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2640"/>
                <a:ext cx="609480" cy="491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200" y="-60660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400"/>
                <a:ext cx="1600200" cy="799920"/>
              </a:xfrm>
              <a:custGeom>
                <a:avLst/>
                <a:gdLst/>
                <a:ahLst/>
                <a:rect l="l" t="t" r="r" b="b"/>
                <a:pathLst>
                  <a:path w="1600200" h="800100">
                    <a:moveTo>
                      <a:pt x="1600200" y="400050"/>
                    </a:moveTo>
                    <a:cubicBezTo>
                      <a:pt x="1600200" y="578260"/>
                      <a:pt x="1364441" y="734980"/>
                      <a:pt x="1022005" y="784406"/>
                    </a:cubicBezTo>
                    <a:cubicBezTo>
                      <a:pt x="877025" y="805332"/>
                      <a:pt x="723166" y="805331"/>
                      <a:pt x="578186" y="784405"/>
                    </a:cubicBezTo>
                    <a:cubicBezTo>
                      <a:pt x="235743" y="734976"/>
                      <a:pt x="-14" y="578248"/>
                      <a:pt x="0" y="400035"/>
                    </a:cubicBezTo>
                    <a:lnTo>
                      <a:pt x="800100" y="400050"/>
                    </a:lnTo>
                    <a:lnTo>
                      <a:pt x="1600200" y="40005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1240" y="762480"/>
                <a:ext cx="416520" cy="416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70640" y="163800"/>
                <a:ext cx="778320" cy="98208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2800" y="842760"/>
                <a:ext cx="533160" cy="533160"/>
              </a:xfrm>
              <a:custGeom>
                <a:avLst/>
                <a:gdLst/>
                <a:ahLst/>
                <a:rect l="l" t="t" r="r" b="b"/>
                <a:pathLst>
                  <a:path w="533400" h="533400">
                    <a:moveTo>
                      <a:pt x="533400" y="266700"/>
                    </a:moveTo>
                    <a:cubicBezTo>
                      <a:pt x="533400" y="413647"/>
                      <a:pt x="414535" y="532909"/>
                      <a:pt x="267589" y="533399"/>
                    </a:cubicBezTo>
                    <a:cubicBezTo>
                      <a:pt x="120642" y="533889"/>
                      <a:pt x="986" y="415422"/>
                      <a:pt x="6" y="268478"/>
                    </a:cubicBezTo>
                    <a:lnTo>
                      <a:pt x="266700" y="266700"/>
                    </a:lnTo>
                    <a:lnTo>
                      <a:pt x="533400" y="2667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8440" y="491760"/>
                <a:ext cx="228600" cy="19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280" cy="1205640"/>
              </a:xfrm>
              <a:custGeom>
                <a:avLst/>
                <a:gdLst/>
                <a:ahLst/>
                <a:rect l="l" t="t" r="r" b="b"/>
                <a:pathLst>
                  <a:path w="1385455" h="1205753">
                    <a:moveTo>
                      <a:pt x="1385455" y="602877"/>
                    </a:moveTo>
                    <a:cubicBezTo>
                      <a:pt x="1385455" y="830804"/>
                      <a:pt x="1237757" y="1039244"/>
                      <a:pt x="1003740" y="1141576"/>
                    </a:cubicBezTo>
                    <a:cubicBezTo>
                      <a:pt x="808050" y="1227148"/>
                      <a:pt x="577390" y="1227146"/>
                      <a:pt x="381702" y="1141571"/>
                    </a:cubicBezTo>
                    <a:cubicBezTo>
                      <a:pt x="147687" y="1039235"/>
                      <a:pt x="-7" y="830791"/>
                      <a:pt x="-2" y="602864"/>
                    </a:cubicBezTo>
                    <a:lnTo>
                      <a:pt x="692728" y="602877"/>
                    </a:lnTo>
                    <a:lnTo>
                      <a:pt x="1385455" y="60287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1480" y="-342360"/>
                <a:ext cx="1600200" cy="685440"/>
              </a:xfrm>
              <a:custGeom>
                <a:avLst/>
                <a:gdLst/>
                <a:ahLst/>
                <a:rect l="l" t="t" r="r" b="b"/>
                <a:pathLst>
                  <a:path w="1600200" h="685800">
                    <a:moveTo>
                      <a:pt x="1600200" y="342900"/>
                    </a:moveTo>
                    <a:cubicBezTo>
                      <a:pt x="1600200" y="500555"/>
                      <a:pt x="1349368" y="637895"/>
                      <a:pt x="992275" y="675762"/>
                    </a:cubicBezTo>
                    <a:cubicBezTo>
                      <a:pt x="866059" y="689146"/>
                      <a:pt x="734133" y="689146"/>
                      <a:pt x="607917" y="675761"/>
                    </a:cubicBezTo>
                    <a:cubicBezTo>
                      <a:pt x="250815" y="637891"/>
                      <a:pt x="-16" y="500544"/>
                      <a:pt x="0" y="342885"/>
                    </a:cubicBezTo>
                    <a:lnTo>
                      <a:pt x="800100" y="342900"/>
                    </a:lnTo>
                    <a:lnTo>
                      <a:pt x="1600200" y="3429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9040" y="62640"/>
                <a:ext cx="685800" cy="5331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668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00" h="527288">
                    <a:moveTo>
                      <a:pt x="838200" y="263644"/>
                    </a:moveTo>
                    <a:cubicBezTo>
                      <a:pt x="838200" y="374546"/>
                      <a:pt x="727874" y="473592"/>
                      <a:pt x="562169" y="511450"/>
                    </a:cubicBezTo>
                    <a:cubicBezTo>
                      <a:pt x="469741" y="532567"/>
                      <a:pt x="368453" y="532567"/>
                      <a:pt x="276025" y="511449"/>
                    </a:cubicBezTo>
                    <a:cubicBezTo>
                      <a:pt x="110319" y="473588"/>
                      <a:pt x="-6" y="374540"/>
                      <a:pt x="0" y="263636"/>
                    </a:cubicBezTo>
                    <a:lnTo>
                      <a:pt x="419100" y="263644"/>
                    </a:lnTo>
                    <a:lnTo>
                      <a:pt x="838200" y="263644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1760" cy="90900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4800" y="-146160"/>
                <a:ext cx="300240" cy="300240"/>
              </a:xfrm>
              <a:custGeom>
                <a:avLst/>
                <a:gdLst/>
                <a:ahLst/>
                <a:rect l="l" t="t" r="r" b="b"/>
                <a:pathLst>
                  <a:path w="300317" h="300317">
                    <a:moveTo>
                      <a:pt x="300317" y="150159"/>
                    </a:moveTo>
                    <a:cubicBezTo>
                      <a:pt x="300317" y="232894"/>
                      <a:pt x="233393" y="300041"/>
                      <a:pt x="150658" y="300317"/>
                    </a:cubicBezTo>
                    <a:cubicBezTo>
                      <a:pt x="67923" y="300593"/>
                      <a:pt x="553" y="233893"/>
                      <a:pt x="2" y="151160"/>
                    </a:cubicBezTo>
                    <a:lnTo>
                      <a:pt x="150159" y="150159"/>
                    </a:lnTo>
                    <a:lnTo>
                      <a:pt x="300317" y="150159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440"/>
                <a:ext cx="182880" cy="228240"/>
              </a:xfrm>
              <a:custGeom>
                <a:avLst/>
                <a:gdLst/>
                <a:ahLst/>
                <a:rect l="l" t="t" r="r" b="b"/>
                <a:pathLst>
                  <a:path w="182880" h="228600">
                    <a:moveTo>
                      <a:pt x="182880" y="114300"/>
                    </a:moveTo>
                    <a:cubicBezTo>
                      <a:pt x="182880" y="177240"/>
                      <a:pt x="142173" y="228337"/>
                      <a:pt x="91821" y="228599"/>
                    </a:cubicBezTo>
                    <a:cubicBezTo>
                      <a:pt x="41362" y="228862"/>
                      <a:pt x="270" y="177983"/>
                      <a:pt x="1" y="114910"/>
                    </a:cubicBezTo>
                    <a:lnTo>
                      <a:pt x="91440" y="114300"/>
                    </a:lnTo>
                    <a:lnTo>
                      <a:pt x="18288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200" y="-113760"/>
                <a:ext cx="228600" cy="228240"/>
              </a:xfrm>
              <a:custGeom>
                <a:avLst/>
                <a:gdLst/>
                <a:ahLst/>
                <a:rect l="l" t="t" r="r" b="b"/>
                <a:pathLst>
                  <a:path w="228600" h="228600">
                    <a:moveTo>
                      <a:pt x="228600" y="114300"/>
                    </a:moveTo>
                    <a:cubicBezTo>
                      <a:pt x="228600" y="177277"/>
                      <a:pt x="177658" y="228389"/>
                      <a:pt x="114681" y="228599"/>
                    </a:cubicBezTo>
                    <a:cubicBezTo>
                      <a:pt x="51704" y="228809"/>
                      <a:pt x="422" y="178038"/>
                      <a:pt x="3" y="115062"/>
                    </a:cubicBezTo>
                    <a:lnTo>
                      <a:pt x="114300" y="114300"/>
                    </a:lnTo>
                    <a:lnTo>
                      <a:pt x="228600" y="1143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360"/>
                <a:ext cx="664920" cy="6649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212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00" h="609600">
                    <a:moveTo>
                      <a:pt x="838200" y="304800"/>
                    </a:moveTo>
                    <a:cubicBezTo>
                      <a:pt x="838200" y="427544"/>
                      <a:pt x="736964" y="538312"/>
                      <a:pt x="581351" y="585832"/>
                    </a:cubicBezTo>
                    <a:cubicBezTo>
                      <a:pt x="477570" y="617524"/>
                      <a:pt x="360623" y="617523"/>
                      <a:pt x="256842" y="585830"/>
                    </a:cubicBezTo>
                    <a:cubicBezTo>
                      <a:pt x="101229" y="538308"/>
                      <a:pt x="-5" y="427538"/>
                      <a:pt x="-1" y="304792"/>
                    </a:cubicBezTo>
                    <a:lnTo>
                      <a:pt x="419100" y="304800"/>
                    </a:lnTo>
                    <a:lnTo>
                      <a:pt x="838200" y="30480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 Rounded MT Bold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560" y="-79560"/>
              <a:ext cx="851760" cy="1136160"/>
            </a:xfrm>
            <a:custGeom>
              <a:avLst/>
              <a:gdLst/>
              <a:ahLst/>
              <a:rect l="l" t="t" r="r" b="b"/>
              <a:pathLst>
                <a:path w="852056" h="1136277">
                  <a:moveTo>
                    <a:pt x="852056" y="568139"/>
                  </a:moveTo>
                  <a:cubicBezTo>
                    <a:pt x="852056" y="744441"/>
                    <a:pt x="790682" y="910754"/>
                    <a:pt x="685929" y="1018308"/>
                  </a:cubicBezTo>
                  <a:cubicBezTo>
                    <a:pt x="532732" y="1175604"/>
                    <a:pt x="319314" y="1175601"/>
                    <a:pt x="166119" y="1018301"/>
                  </a:cubicBezTo>
                  <a:cubicBezTo>
                    <a:pt x="61369" y="910744"/>
                    <a:pt x="-2" y="744432"/>
                    <a:pt x="0" y="568131"/>
                  </a:cubicBezTo>
                  <a:lnTo>
                    <a:pt x="426028" y="568139"/>
                  </a:lnTo>
                  <a:lnTo>
                    <a:pt x="852056" y="568139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 Rounded MT Bold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6F5B-0938-4880-956C-39C338B029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Le partitif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2550960" y="470520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712800" y="1368000"/>
            <a:ext cx="771696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The word for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som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in French is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If you want to say “some milk”: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ake the wor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(some) then add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e lait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(milk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lait = de le la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WAIT A MINUTE! We have a major problem.</a:t>
            </a:r>
            <a:endParaRPr b="0" lang="en-US" sz="28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French, when the work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is next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, it changes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u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631800" indent="-282600">
              <a:spcAft>
                <a:spcPts val="1001"/>
              </a:spcAft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SOOOOOO “some milk” = </a:t>
            </a:r>
            <a:r>
              <a:rPr b="1" lang="en-US" sz="2600" spc="-1" strike="noStrike" u="sng">
                <a:solidFill>
                  <a:srgbClr val="ffffff"/>
                </a:solidFill>
                <a:uFillTx/>
                <a:latin typeface="Arial Rounded MT Bold"/>
              </a:rPr>
              <a:t>du</a:t>
            </a:r>
            <a:r>
              <a:rPr b="0" lang="en-US" sz="2600" spc="-1" strike="noStrike">
                <a:solidFill>
                  <a:srgbClr val="ffffff"/>
                </a:solidFill>
                <a:latin typeface="Arial Rounded MT Bold"/>
              </a:rPr>
              <a:t> lait</a:t>
            </a:r>
            <a:endParaRPr b="0" lang="en-US" sz="2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9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9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9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This Chart Will Help You!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26" name=""/>
          <p:cNvGraphicFramePr/>
          <p:nvPr/>
        </p:nvGraphicFramePr>
        <p:xfrm>
          <a:off x="712800" y="3011400"/>
          <a:ext cx="7716960" cy="2803680"/>
        </p:xfrm>
        <a:graphic>
          <a:graphicData uri="http://schemas.openxmlformats.org/drawingml/2006/table">
            <a:tbl>
              <a:tblPr/>
              <a:tblGrid>
                <a:gridCol w="3859200"/>
                <a:gridCol w="3857760"/>
              </a:tblGrid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e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u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l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l’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 + l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de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 Rounded MT Bold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cbcb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omplete the following “some” equations: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8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a pizza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champignons = 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’anana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bonbon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céleri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TextBox 3"/>
          <p:cNvSpPr/>
          <p:nvPr/>
        </p:nvSpPr>
        <p:spPr>
          <a:xfrm>
            <a:off x="3430440" y="3011400"/>
            <a:ext cx="35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 la pizza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0" name="TextBox 4"/>
          <p:cNvSpPr/>
          <p:nvPr/>
        </p:nvSpPr>
        <p:spPr>
          <a:xfrm>
            <a:off x="4782960" y="3595680"/>
            <a:ext cx="33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champign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1" name="TextBox 5"/>
          <p:cNvSpPr/>
          <p:nvPr/>
        </p:nvSpPr>
        <p:spPr>
          <a:xfrm>
            <a:off x="3747960" y="419724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 l’anana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2" name="TextBox 6"/>
          <p:cNvSpPr/>
          <p:nvPr/>
        </p:nvSpPr>
        <p:spPr>
          <a:xfrm>
            <a:off x="4160880" y="48369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bonbon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3" name="TextBox 7"/>
          <p:cNvSpPr/>
          <p:nvPr/>
        </p:nvSpPr>
        <p:spPr>
          <a:xfrm>
            <a:off x="3611520" y="543096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 céleri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" dur="500"/>
                                        <p:tgtEl>
                                          <p:spTgt spid="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9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" dur="500"/>
                                        <p:tgtEl>
                                          <p:spTgt spid="9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" dur="500"/>
                                        <p:tgtEl>
                                          <p:spTgt spid="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50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9" dur="500"/>
                                        <p:tgtEl>
                                          <p:spTgt spid="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s carotes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457200" indent="-457200">
              <a:spcAft>
                <a:spcPts val="2001"/>
              </a:spcAft>
              <a:buClr>
                <a:srgbClr val="ffffff"/>
              </a:buClr>
              <a:buFont typeface="Arial Rounded MT Bold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e + le fromage = ________________________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6" name="TextBox 3"/>
          <p:cNvSpPr/>
          <p:nvPr/>
        </p:nvSpPr>
        <p:spPr>
          <a:xfrm>
            <a:off x="4238640" y="301140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es carottes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37" name="TextBox 4"/>
          <p:cNvSpPr/>
          <p:nvPr/>
        </p:nvSpPr>
        <p:spPr>
          <a:xfrm>
            <a:off x="4057560" y="3562200"/>
            <a:ext cx="33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du fromage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157040"/>
            <a:ext cx="77169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Au négatif…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2474640"/>
            <a:ext cx="7716960" cy="39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n the negative, NE and PAS sandwich the verb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Y TYPE of du, de la, de l’, or des CHANGES to de ALWAYS!!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: Je veut du maïs soufflé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J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veu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maïs soufflé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: Je mets de l’ananas sur ma pizza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J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n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met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as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’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anas sur ma pizz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transition spd="slow"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2T19:33:44Z</dcterms:created>
  <dc:creator>Sarah</dc:creator>
  <dc:description/>
  <dc:language>en-US</dc:language>
  <cp:lastModifiedBy>Sarah</cp:lastModifiedBy>
  <dcterms:modified xsi:type="dcterms:W3CDTF">2012-10-23T18:16:37Z</dcterms:modified>
  <cp:revision>8</cp:revision>
  <dc:subject/>
  <dc:title>Le partitif</dc:title>
</cp:coreProperties>
</file>